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C9504-1D12-4A3E-90DF-7244778590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C61BB-8654-4E6E-80ED-5943666031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EEB1B-96D2-4DD9-89B9-1DF898BCAD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4E1-A090-4369-A9CB-1BC13804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4D6-E98D-4E38-BEA2-EB633FE7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13E-4EEE-4DA5-A524-F951C3EE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5DE-2490-4E40-A5DE-1ED97E61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316-30B1-4A1B-89DE-686E6F0A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BCB-02ED-4685-A62B-B6AB9F2F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876-5D3A-4F24-AB4A-FC3A7528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5DC-CA3A-4DF4-845A-CE691595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BAA-F8D5-4A77-A017-D01F95AF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5C8-2326-4A1C-8742-ECE6679A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441-D497-4059-B621-AC61EF6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722-4BDD-490C-8959-3358563B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E94315-E04C-4FE9-B587-DD32654D9A7E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7431120" y="6278400"/>
            <a:ext cx="1712880" cy="579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179280" y="27813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UN ECOSISTEMA MAR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258920" y="189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os eco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 rot="5400000">
            <a:off x="-511200" y="510840"/>
            <a:ext cx="2209680" cy="1187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61 Conector recto"/>
          <p:cNvSpPr/>
          <p:nvPr/>
        </p:nvSpPr>
        <p:spPr>
          <a:xfrm>
            <a:off x="971640" y="2637000"/>
            <a:ext cx="287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63 Conector recto"/>
          <p:cNvSpPr/>
          <p:nvPr/>
        </p:nvSpPr>
        <p:spPr>
          <a:xfrm>
            <a:off x="971640" y="5229360"/>
            <a:ext cx="287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1116000" y="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n ecosistema mar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 rot="5400000">
            <a:off x="-507960" y="510840"/>
            <a:ext cx="2209680" cy="1187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90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 rot="5400000">
            <a:off x="-507960" y="510840"/>
            <a:ext cx="2209680" cy="1187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0" y="0"/>
            <a:ext cx="90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 rot="5400000">
            <a:off x="-507960" y="510840"/>
            <a:ext cx="2209680" cy="1187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0" y="0"/>
            <a:ext cx="90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 rot="5400000">
            <a:off x="-511200" y="510840"/>
            <a:ext cx="2209680" cy="1187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0" y="0"/>
            <a:ext cx="90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40 Imagen" descr="2CN_05_ecomarino.jpg"/>
          <p:cNvPicPr/>
          <p:nvPr/>
        </p:nvPicPr>
        <p:blipFill>
          <a:blip r:embed="rId2"/>
          <a:stretch/>
        </p:blipFill>
        <p:spPr>
          <a:xfrm>
            <a:off x="1222200" y="836640"/>
            <a:ext cx="7685280" cy="5545080"/>
          </a:xfrm>
          <a:prstGeom prst="rect">
            <a:avLst/>
          </a:prstGeom>
          <a:ln w="0">
            <a:noFill/>
          </a:ln>
        </p:spPr>
      </p:pic>
      <p:grpSp>
        <p:nvGrpSpPr>
          <p:cNvPr id="70" name="47 Grupo"/>
          <p:cNvGrpSpPr/>
          <p:nvPr/>
        </p:nvGrpSpPr>
        <p:grpSpPr>
          <a:xfrm>
            <a:off x="2444760" y="2840040"/>
            <a:ext cx="6502320" cy="2087640"/>
            <a:chOff x="2444760" y="2840040"/>
            <a:chExt cx="6502320" cy="2087640"/>
          </a:xfrm>
        </p:grpSpPr>
        <p:sp>
          <p:nvSpPr>
            <p:cNvPr id="71" name="Text Box 20"/>
            <p:cNvSpPr/>
            <p:nvPr/>
          </p:nvSpPr>
          <p:spPr>
            <a:xfrm>
              <a:off x="4178880" y="3286080"/>
              <a:ext cx="15760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Cachalo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2680920" y="2840040"/>
              <a:ext cx="15760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Atun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7371000" y="3777120"/>
              <a:ext cx="15760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Calam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3"/>
            <p:cNvSpPr/>
            <p:nvPr/>
          </p:nvSpPr>
          <p:spPr>
            <a:xfrm>
              <a:off x="5794920" y="3951000"/>
              <a:ext cx="15760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Bericid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 Box 24"/>
            <p:cNvSpPr/>
            <p:nvPr/>
          </p:nvSpPr>
          <p:spPr>
            <a:xfrm>
              <a:off x="2444760" y="3754800"/>
              <a:ext cx="15760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Caracin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26"/>
            <p:cNvSpPr/>
            <p:nvPr/>
          </p:nvSpPr>
          <p:spPr>
            <a:xfrm>
              <a:off x="3035520" y="4433400"/>
              <a:ext cx="15760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Pulp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abisa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 Box 30"/>
            <p:cNvSpPr/>
            <p:nvPr/>
          </p:nvSpPr>
          <p:spPr>
            <a:xfrm>
              <a:off x="6858360" y="4631400"/>
              <a:ext cx="15760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Medu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49 Grupo"/>
          <p:cNvGrpSpPr/>
          <p:nvPr/>
        </p:nvGrpSpPr>
        <p:grpSpPr>
          <a:xfrm>
            <a:off x="1419120" y="4927680"/>
            <a:ext cx="7134480" cy="1170000"/>
            <a:chOff x="1419120" y="4927680"/>
            <a:chExt cx="7134480" cy="1170000"/>
          </a:xfrm>
        </p:grpSpPr>
        <p:sp>
          <p:nvSpPr>
            <p:cNvPr id="79" name="Text Box 25"/>
            <p:cNvSpPr/>
            <p:nvPr/>
          </p:nvSpPr>
          <p:spPr>
            <a:xfrm>
              <a:off x="1419120" y="4927680"/>
              <a:ext cx="15760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Eurypharynx </a:t>
              </a:r>
              <a:br>
                <a:rPr sz="1200"/>
              </a:b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pelecanoid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Text Box 27"/>
            <p:cNvSpPr/>
            <p:nvPr/>
          </p:nvSpPr>
          <p:spPr>
            <a:xfrm>
              <a:off x="6977520" y="5603760"/>
              <a:ext cx="15760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Linofrin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Text Box 28"/>
            <p:cNvSpPr/>
            <p:nvPr/>
          </p:nvSpPr>
          <p:spPr>
            <a:xfrm>
              <a:off x="5400720" y="5318280"/>
              <a:ext cx="15760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Saccopharyn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Text Box 29"/>
            <p:cNvSpPr/>
            <p:nvPr/>
          </p:nvSpPr>
          <p:spPr>
            <a:xfrm>
              <a:off x="3153600" y="5256360"/>
              <a:ext cx="15760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Congr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31"/>
            <p:cNvSpPr/>
            <p:nvPr/>
          </p:nvSpPr>
          <p:spPr>
            <a:xfrm>
              <a:off x="4217400" y="5603760"/>
              <a:ext cx="15760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Holoturi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abis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46 Grupo"/>
          <p:cNvGrpSpPr/>
          <p:nvPr/>
        </p:nvGrpSpPr>
        <p:grpSpPr>
          <a:xfrm>
            <a:off x="1655640" y="1117440"/>
            <a:ext cx="7488360" cy="1467000"/>
            <a:chOff x="1655640" y="1117440"/>
            <a:chExt cx="7488360" cy="1467000"/>
          </a:xfrm>
        </p:grpSpPr>
        <p:sp>
          <p:nvSpPr>
            <p:cNvPr id="85" name="Text Box 32"/>
            <p:cNvSpPr/>
            <p:nvPr/>
          </p:nvSpPr>
          <p:spPr>
            <a:xfrm>
              <a:off x="1655640" y="1608120"/>
              <a:ext cx="15760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Tortug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mar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33"/>
            <p:cNvSpPr/>
            <p:nvPr/>
          </p:nvSpPr>
          <p:spPr>
            <a:xfrm>
              <a:off x="7567920" y="1608120"/>
              <a:ext cx="15760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Tiburon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34"/>
            <p:cNvSpPr/>
            <p:nvPr/>
          </p:nvSpPr>
          <p:spPr>
            <a:xfrm>
              <a:off x="6778800" y="1117440"/>
              <a:ext cx="15760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Delfines comun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35"/>
            <p:cNvSpPr/>
            <p:nvPr/>
          </p:nvSpPr>
          <p:spPr>
            <a:xfrm>
              <a:off x="5400720" y="1217160"/>
              <a:ext cx="15760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Balle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36"/>
            <p:cNvSpPr/>
            <p:nvPr/>
          </p:nvSpPr>
          <p:spPr>
            <a:xfrm>
              <a:off x="4217040" y="1217160"/>
              <a:ext cx="15760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Pez espad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37"/>
            <p:cNvSpPr/>
            <p:nvPr/>
          </p:nvSpPr>
          <p:spPr>
            <a:xfrm>
              <a:off x="4809960" y="2288520"/>
              <a:ext cx="98532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Pulp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40 Conector recto"/>
          <p:cNvSpPr/>
          <p:nvPr/>
        </p:nvSpPr>
        <p:spPr>
          <a:xfrm>
            <a:off x="1187280" y="692280"/>
            <a:ext cx="32403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41 Conector recto"/>
          <p:cNvSpPr/>
          <p:nvPr/>
        </p:nvSpPr>
        <p:spPr>
          <a:xfrm>
            <a:off x="4500720" y="692280"/>
            <a:ext cx="43923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43 CuadroTexto"/>
          <p:cNvSpPr/>
          <p:nvPr/>
        </p:nvSpPr>
        <p:spPr>
          <a:xfrm>
            <a:off x="5651640" y="40464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Zona oceán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44 CuadroTexto"/>
          <p:cNvSpPr/>
          <p:nvPr/>
        </p:nvSpPr>
        <p:spPr>
          <a:xfrm>
            <a:off x="1835280" y="40464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Zona nerí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45 Conector recto"/>
          <p:cNvSpPr/>
          <p:nvPr/>
        </p:nvSpPr>
        <p:spPr>
          <a:xfrm flipV="1">
            <a:off x="1116000" y="836640"/>
            <a:ext cx="0" cy="17287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48 Conector recto"/>
          <p:cNvSpPr/>
          <p:nvPr/>
        </p:nvSpPr>
        <p:spPr>
          <a:xfrm flipV="1">
            <a:off x="1116000" y="2707920"/>
            <a:ext cx="0" cy="237636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50 Conector recto"/>
          <p:cNvSpPr/>
          <p:nvPr/>
        </p:nvSpPr>
        <p:spPr>
          <a:xfrm flipV="1">
            <a:off x="1116000" y="5300280"/>
            <a:ext cx="0" cy="10810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53 CuadroTexto"/>
          <p:cNvSpPr/>
          <p:nvPr/>
        </p:nvSpPr>
        <p:spPr>
          <a:xfrm>
            <a:off x="179280" y="1844640"/>
            <a:ext cx="25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Zona</a:t>
            </a:r>
            <a:br>
              <a:rPr sz="1600"/>
            </a:b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pelág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54 CuadroTexto"/>
          <p:cNvSpPr/>
          <p:nvPr/>
        </p:nvSpPr>
        <p:spPr>
          <a:xfrm>
            <a:off x="395280" y="3429000"/>
            <a:ext cx="25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Zona</a:t>
            </a:r>
            <a:br>
              <a:rPr sz="1600"/>
            </a:b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bat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55 CuadroTexto"/>
          <p:cNvSpPr/>
          <p:nvPr/>
        </p:nvSpPr>
        <p:spPr>
          <a:xfrm>
            <a:off x="324000" y="558972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Zona</a:t>
            </a:r>
            <a:br>
              <a:rPr sz="1600"/>
            </a:b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abis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56 CuadroTexto"/>
          <p:cNvSpPr/>
          <p:nvPr/>
        </p:nvSpPr>
        <p:spPr>
          <a:xfrm>
            <a:off x="0" y="249228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00 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66 CuadroTexto"/>
          <p:cNvSpPr/>
          <p:nvPr/>
        </p:nvSpPr>
        <p:spPr>
          <a:xfrm>
            <a:off x="0" y="5013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000 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2:34:24Z</dcterms:created>
  <dc:creator>Eva</dc:creator>
  <dc:description/>
  <dc:language>en-US</dc:language>
  <cp:lastModifiedBy>Ana</cp:lastModifiedBy>
  <dcterms:modified xsi:type="dcterms:W3CDTF">2011-07-19T16:00:03Z</dcterms:modified>
  <cp:revision>18</cp:revision>
  <dc:subject/>
  <dc:title>Diapositiva 1</dc:title>
</cp:coreProperties>
</file>